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9.wmf" ContentType="image/x-wmf"/>
  <Override PartName="/ppt/media/image17.wmf" ContentType="image/x-wmf"/>
  <Override PartName="/ppt/media/image16.wmf" ContentType="image/x-wmf"/>
  <Override PartName="/ppt/media/image4.jpeg" ContentType="image/jpeg"/>
  <Override PartName="/ppt/media/image14.wmf" ContentType="image/x-wmf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18.wmf" ContentType="image/x-wmf"/>
  <Override PartName="/ppt/media/image6.jpeg" ContentType="image/jpeg"/>
  <Override PartName="/ppt/media/image7.jpeg" ContentType="image/jpe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893B1-51A5-4472-A9FD-72C65FA53B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INTERNATIONAL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GEO-ASSOCI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ждународная географическая ассоци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Дата основания: 8 мая 2007 год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ольшой Географический Фестива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-6 апреля 2008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нкт-Петербур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DF49C-EBA9-4741-8C36-FC5D4E4FFAA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ак почетным Президентом IIGA и ее научным руководителем является бывший зам. главного редактора "Известия РАН (серия географическая)", кандидат географических нау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нненков В. 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36579-22FC-411B-93F3-7CFB4D5BF64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звестные люди ассоциа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четными руководителями Ассоциации являю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андидат географических наук, доцент географического  факультета МПГУ, Президент Российской Ассоциации Учителей Географ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обжанидзе А. 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андидат географических наук МПГ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шевой В. 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27927-9048-4F82-858E-4E1A4BA8804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етодист методической лаборатории географии Московского института открытого образования. Руководитель Виртуального методического объединения учителей географии (ВМОУГ), координатор Дистанционной обучающей олимпиады по географии, координатор сообщества учителей географии портала «Сеть творческих учителей»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рылов А.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ван Затевахин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дио- и телеведущий передач о животных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ндидат биологических нау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29BB2-0726-4AC4-BA72-AC6E6CFADBD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.А. Волко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едседатель Океанографической комиссии РГ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орис Муравь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ействительный член РГО, сектор эколог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34D3B-CCFE-45A9-90A8-AE67989826B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ригорий  Кубатья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утешественник, журналист «GEO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иколай Баландинск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рганизатор съемок на местах географических передач НТВ, автор сайта "GEO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RAFIA.RU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E7D76-C7C4-468E-8E00-39BEDAA250A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аместитель главного редактор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азеты  «Коммерсант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горь Тросни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реди известных людей в географической среде , котор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ткликнулись на приглаше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Баринова И.И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(главный редактор журнала "География и экология в школе 21 века", профессор МПГУ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Смирнягин Л. В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( к.г.н., доцент географического факультета МГУ, научный консультант Фонда «Институт экономики города»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Чупина Л.Б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(к.г.н., доцент географического факультета ПГУ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Чмерёва Г.В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(ответственный секретарь объединения выпускников географического факультета МГУ им. М.В. Ломоносова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400C1-7A78-4643-A8DB-EC024CE2527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Активные рядовые члены организаци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тудент факультета географии и геоэкологии Санкт-Петербургского Государственного Университета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митрий Саль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лексей Желез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ссистент кафедры геоморфологии  Санкт-Петербургского Государственного Университ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F2012-437D-466E-9BAB-AB160DD45A1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спирант кафедры отечественной истории Красноярского Государственного Педагогического Университета В.П. Астафье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ергей Бахт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спирант кафедры экономической и социальной географии России Московского Государственного Университета им. М.В. Ломоносо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лексей Сидоренк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спирант Института наследия имени Дмитрия Лихаче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иктор Мата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спирант Таврического Национально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ниверситета  (Украин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ергей Гу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A198A-27A7-4641-BF85-AA4CF42B51B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тудент географического факультета Московского Государственного Университета им. М.В. Ломоносова, призер международной олимпиады по геогра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ван Прохо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тудент факультета естественных наук и природных ресурсов Новгородского Государственного Университ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лексей Сабель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772E6-E471-405F-88D8-E0748DF776B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ейтинг тем, кол-во человек принявших в обсуждениях, 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%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браз идеального географа – 3%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фессия географа – 8%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ематические отрасли  в географии - 20%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ездки, путешествия, туризм - 10%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орода России – 3%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частие в различных географических организациях - 7%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ступление на географические факультеты страны – 13 %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еографическое мышление – 4 %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блемы трудоустройства – 15 %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бучение географии в школе – 3%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циальный статус и его роль в географии – 6%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еографический софт и игры – 8 %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еографический юмор – 3%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дминистративно-территориальное деление России 10 %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ИС- 6 %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еографическая культура – 15 %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FA251-5738-4D28-A98D-D6517BF7E89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6583A-542C-4F87-9159-4B1D45AB22F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едислов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тория развития социального об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ременные информационные средства общ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тевые книг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у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лог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циальные сети (Вконтакте, Википедия и др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Итоги работы организации за год существова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) Намечена стратегия развития проек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) Создан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форум-каталог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географических ресурсов http://geoforumkatalog.5bk.org/ , сотрудничающий с Елисеевским географическим обществом (руководителем которого является Николай Баландинский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3) В рамках Ассоциации предпринята попытка создания дистанционного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социального географического университета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(http://vkontakte.ru/club1859707 ), состоящего из ряда дистанционных кафедр и лабораторий (дистанционное тьюторство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4) Подготавливаются база для создания первого в России географического движения (несколько видных географов уже высказали свой интерес к этому проекту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5) Сформирован Банк географической информации (http://vkontakte.ru/club92697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6) Постоянно обновляется географический фото-, аудио- и видеоархив (в нашем архиве есть и эксклюзивные материалы с путешествий Григория Кубатьяна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7) Началось постепенное формирование географических компьютерных презентац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8) В рамках ассоциированной с IIGA виртуальной кафедрой этнологии (http://vkontakte.ru/club258245 ) создана Инициативная группа по "проталкиванию" нового школьного предмета под условным названием "Народоведение" (http://vkontakte.ru/club147522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9) Организован ряд интересных встреч, конкурсов, фестивалей и этнографических полевых практикумов (см. раздел "Наши мероприятия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0) Вынесены на обсуждение актуальные теоретические и практические вопросы географи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1) По целому ряду географических проблем среди участников Ассоциации проводятся социологические опрос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2) Оперативно помещается самая свежая информация географического плана (раздел "Новости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3) Создан уникальный банк данных по российским и зарубежным знаменитостям с высшим географическим образованием, но не ставших профессиональными географ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00082-5A1E-4EA9-B625-F1E82C98C10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истанционный Социальный Географический Университ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се началось с создания гео-национального проекта "Вконтакте с Географией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ект с марта месяца 2008 года поменял свою направленность. Главной его сферой стала социальная, ориентированная на потребности человека в географ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ыли поставлены задач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) Развитие единой электронной библиотеки по географи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) Создание рекламной афиши по купле и продажи географических книг и пособий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3) Консультации по спектру вопросов, касающихся географи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4) Обучение информационным технологиям в географи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5) Обсуждение проблем в географи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6) Развитие отдельных отраслей географи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7) Помощь в трудоустройстве (единая справочная сеть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8) Создание нового информационного класса для обучения и создание единого виртуального дистанционного географического университета;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E3697-D89E-4101-9DBF-22C3AD96DC8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сновные свед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Социальный (Интерактивный) Географический Университет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службы "Вконтакте" был основан 4 марта 2008 года. Его состав включает все социальные слои в географии, геологии, картографии, истории, политологии и туризме и в других естественнонаучных и гуманитарных науках, тесно соприкасающихся с географией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ием заявок на вступление происходит по следующим критериям отбор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ИО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бразова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ченая степен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ублик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фессиональные достиж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85379-CB8E-4A3B-B2AE-517323C97BA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труктура СИАГ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 сегодняшний день создан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5 кафедр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8 лаборатор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 электронно-книжная библиоте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 центр электронных географических ресурсов Интерне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 видео-географический архи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есколько подшефных организаций (фан-клубы, известных организаций и печатных изданий страны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E9489-91A7-40D2-918F-81E4CC98D77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звание структурных подразделений (СИАГУ)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Кафедра истории географической науки и образования стран мир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занимается изучением истоков зарождения науки и развития гео. образования в мире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Кафедра географии урбанизации мир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занимается проблемами исследования  урбанизации в мире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Кафедра политической географии (геополитики) и регионалисти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занимается  геополитическими исследованиями стран мира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Кафедра вузовской географии и трудоустройства (занимается вопросами качества высшего гео. образования и проблемами постдипломного трудоустрой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Кафедра Географической визуализации (занимается вопросами картографии и ГИС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Кафедра медийной географии (занимается изучением распространения СМИ и мультимедийной продукции в географ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Кафедра культурной географии (география культуры и искусства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Кафедра географии религий мир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Кафедра электоральной географии (занимается изучением политики с точки зрения социально-экономической географии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Кафедра страноведения и м.д. тур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A1713-A4C1-40E1-894F-D4CFB6C9C7D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еографический Форум-Каталог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Geographical Forum-Cata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ум представляет собой информационный ресурс. Состоит из 6 категорий. В основных темах форума представлены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GA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Ассоциация, на которой основан форум, «Географическая библиотека», «Гео-образование», кафедры Социально-Интерактивного Географического Университета, темы по направлениям географии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Цель форума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динение географов, геологов, почвоведов, картографов, специалистов в сфере туризма, историков, политологов, экономистов и всех любителей науки, кому не безразлична судьба современной географии, её проблем и дальнейших перспекти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Задачи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лечение в форум по средствам интернет-общения сторонников национальной географической идеи, обсуждение актуальных проблем нынешней географии, её теоретических и практических вопро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ум могут вступить все желающие, кому дорога география. Это могут быть: студенты, школьники,учителя,преподаватели школ и вузов, путешественники, туристы и просто любители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74122-5091-4D83-96CE-F663906E430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 Ассоци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B06AD-3489-4230-86BB-4D6DA17F9B4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ервисы Web 2.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дним  из многофункциональных лидеров социальных сетей в России стала  служб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Вконтакт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». Созданная Ивановым Алексеем, российский аналог англоязычного сервиса «Facebook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йт был изначально создан для студентов и выпускников российских вузов и помогает им поддерживать связь между собой. В нынешнее время происходит расширение аудитории сайта для всех слоев пользователей Интерн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Автором проекта является стипендиат премии Потанина Павел Дуров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Times New Roman"/>
              </a:rPr>
              <a:t>Википедия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ногоязычная общедоступная свободно распространяемая энциклопедия, публикуемая в Интернете. Создаётся на многих языках мира коллективным трудом добровольных авторов, использующих технологию в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(Вики — веб-сайт, структуру и содержимое которого пользователи могут сообща изменять с помощью инструментов, предоставляемых самим сайтом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684BF-DAEE-4EE3-AAF8-2F0C7AE7130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стория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IG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 весне 2007 года, когда шло развитие самой социальной службы, энтузиастами разрабатывалась сама концепция построения международной географической ассоци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легом Сычевым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,  учителем географии московской школ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ениченко Владимиром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, студентом геолого-географического факультета Астраханского государственного университ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387E9-2A89-4639-B3E8-E2275BB786A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Цели создания Ассоциаци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вышение уровня географического образования различного статус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вышения статуса географии как нау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здание единого Географического профсоюза (в дальнейшем - Движения Географов), который служил бы исполнительным органом за надзором качества преподаваемой дисциплин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решения проблем трудоустройств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вышения статуса предмета в школ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еждународное географическое сотрудничество между различными социальными статусами в географии и смежных наука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DC753-B254-4571-BAB2-F6881DB2CA1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офессиональный соста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Географ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еолог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чвоведы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артограф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пециалисты по ГИС и в сфере туризм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стори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литолог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Экономисты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Этнолог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иолог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Ассоциацию могут войти не только профессиональные географы, но и представители других смежных с географией нау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63524-8790-4F6B-AC11-3A08F704465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бщие све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 конец марта 2008 года в Ассоциации насчитывается более 4650 чел. В основном из России и в основном студенты-географы. Но также есть участники из Украины, Белоруссии, Грузии, Азербайджана, Киргизии, Узбекистана, Казахстана, США, Израиля и Герма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реди участников и руководителей Ассоциации есть и известные люд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FB0C5-5D15-4C8A-8FA4-38274A42BE9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B894-A837-4633-AC31-6E85B3AC6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5F10-1EAD-41D3-90B9-845ACDFED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0ECC-2719-4BAC-B543-421BC408B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ED70-E89A-4FCD-A11F-097A988B3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ED5FA-B34D-4ABC-9113-5EA7842CB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16BE0-77C0-4AFC-8F95-C080A2CDC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A9166-AE96-4F8C-9386-2AC0C6796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67165-9D2C-4568-A13D-1FF1622D9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A317D-C7B8-491B-95A9-B414B08B8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BF6C2-3BD9-40C6-A2A2-510726C7A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ACAF3-42B1-426E-BC2B-0D8D3C11F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D8A2-35CD-4079-BC50-A8C309917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AC3BE-1EE0-4AF2-962A-15E167747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0AE78-DB24-440D-8FE5-F0B85D6C9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C2B2D-3F01-49EE-A259-1987932A5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79E5E-5544-441F-B36D-7C3202DF8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9814E-54E0-47C1-857E-2575BCCCD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784A-2A7B-43A9-83F4-6C9163876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F384-C082-4CCD-B6D7-8E672591F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071F-A1E6-4853-9460-C62586D9F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1B80-9D97-4AB2-BD94-3BDDB426A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A51D-AC86-467C-BFA0-5A2341841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FBC7-4E2C-4F70-8B44-218BC192E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25B0-00F2-4237-8640-C4132529D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09F62-B51A-44E1-A547-27E51AB2777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80A62-322D-42BE-AD25-B21DBF27096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6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7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wiki/Facebook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00000" y="1413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Times New Roman"/>
              </a:rPr>
              <a:t>INTERNATIONAL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Times New Roman"/>
              </a:rPr>
              <a:t>GEO-ASSOCIATION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403280" y="3573360"/>
            <a:ext cx="6400800" cy="26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еждународная географическая ассоциац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Дата основания: 8 мая 2007 года)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ольшой Географический Фестиваль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-6 апреля 2008г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анкт-Петербург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5" name="Picture 11" descr="95084_lzn"/>
          <p:cNvPicPr/>
          <p:nvPr/>
        </p:nvPicPr>
        <p:blipFill>
          <a:blip r:embed="rId1"/>
          <a:stretch/>
        </p:blipFill>
        <p:spPr>
          <a:xfrm>
            <a:off x="3492360" y="2349360"/>
            <a:ext cx="2303640" cy="12160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2" descr="zast_lzn"/>
          <p:cNvPicPr/>
          <p:nvPr/>
        </p:nvPicPr>
        <p:blipFill>
          <a:blip r:embed="rId2"/>
          <a:stretch/>
        </p:blipFill>
        <p:spPr>
          <a:xfrm>
            <a:off x="3419640" y="0"/>
            <a:ext cx="2304720" cy="144144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95280" y="-31608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Так почетным Президентом IIGA и ее научным руководителем является бывший зам. главного редактора "Известия РАН (серия географическая)", кандидат географических наук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Анненков В. В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4" name="Picture 4" descr="a_c58d422_lzn"/>
          <p:cNvPicPr/>
          <p:nvPr/>
        </p:nvPicPr>
        <p:blipFill>
          <a:blip r:embed="rId1"/>
          <a:stretch/>
        </p:blipFill>
        <p:spPr>
          <a:xfrm>
            <a:off x="755640" y="2781360"/>
            <a:ext cx="1905120" cy="2790720"/>
          </a:xfrm>
          <a:prstGeom prst="rect">
            <a:avLst/>
          </a:prstGeom>
          <a:ln w="0">
            <a:noFill/>
          </a:ln>
        </p:spPr>
      </p:pic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Известные люди ассоциации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Почетными руководителями Ассоциации являются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Кандидат географических наук, доцент географического  факультета МПГУ, Президент Российской Ассоциации Учителей Географии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Лобжанидзе А. А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Кандидат географических наук МПГУ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ошевой В. А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8" name="Picture 6" descr="x_4a52be9f_lzn"/>
          <p:cNvPicPr/>
          <p:nvPr/>
        </p:nvPicPr>
        <p:blipFill>
          <a:blip r:embed="rId1"/>
          <a:stretch/>
        </p:blipFill>
        <p:spPr>
          <a:xfrm>
            <a:off x="1403280" y="1700280"/>
            <a:ext cx="3024360" cy="1871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a_52c98944_lzn"/>
          <p:cNvPicPr/>
          <p:nvPr/>
        </p:nvPicPr>
        <p:blipFill>
          <a:blip r:embed="rId2"/>
          <a:stretch/>
        </p:blipFill>
        <p:spPr>
          <a:xfrm>
            <a:off x="5364000" y="1989000"/>
            <a:ext cx="2294280" cy="3959280"/>
          </a:xfrm>
          <a:prstGeom prst="rect">
            <a:avLst/>
          </a:prstGeom>
          <a:ln w="0">
            <a:noFill/>
          </a:ln>
        </p:spPr>
      </p:pic>
      <p:sp>
        <p:nvSpPr>
          <p:cNvPr id="2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етодист методической лаборатории географии Московского института открытого образования. Руководитель Виртуального методического объединения учителей географии (ВМОУГ), координатор Дистанционной обучающей олимпиады по географии, координатор сообщества учителей географии портала «Сеть творческих учителей»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рылов А.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ван Затевахин,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Радио- и телеведущий передач о животных,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Кандидат биологических наук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2" name="Picture 4" descr="krylov-teleclass-mini_lzn"/>
          <p:cNvPicPr/>
          <p:nvPr/>
        </p:nvPicPr>
        <p:blipFill>
          <a:blip r:embed="rId1"/>
          <a:stretch/>
        </p:blipFill>
        <p:spPr>
          <a:xfrm>
            <a:off x="4284720" y="1773360"/>
            <a:ext cx="1879560" cy="24476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x_5d28e08e_lzn"/>
          <p:cNvPicPr/>
          <p:nvPr/>
        </p:nvPicPr>
        <p:blipFill>
          <a:blip r:embed="rId2"/>
          <a:stretch/>
        </p:blipFill>
        <p:spPr>
          <a:xfrm>
            <a:off x="6012000" y="4481640"/>
            <a:ext cx="2447640" cy="2376360"/>
          </a:xfrm>
          <a:prstGeom prst="rect">
            <a:avLst/>
          </a:prstGeom>
          <a:ln w="0">
            <a:noFill/>
          </a:ln>
        </p:spPr>
      </p:pic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539640" y="260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.А. Волков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председатель Океанографической комиссии РГО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Борис Муравье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Действительный член РГО, сектор экологии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6" name="Picture 4" descr="88_lzn"/>
          <p:cNvPicPr/>
          <p:nvPr/>
        </p:nvPicPr>
        <p:blipFill>
          <a:blip r:embed="rId1"/>
          <a:stretch/>
        </p:blipFill>
        <p:spPr>
          <a:xfrm>
            <a:off x="2124000" y="1052640"/>
            <a:ext cx="4248360" cy="27176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6" descr="a_9c512e0a_lzn"/>
          <p:cNvPicPr/>
          <p:nvPr/>
        </p:nvPicPr>
        <p:blipFill>
          <a:blip r:embed="rId2"/>
          <a:stretch/>
        </p:blipFill>
        <p:spPr>
          <a:xfrm>
            <a:off x="4859280" y="4221000"/>
            <a:ext cx="2233800" cy="2637000"/>
          </a:xfrm>
          <a:prstGeom prst="rect">
            <a:avLst/>
          </a:prstGeom>
          <a:ln w="0">
            <a:noFill/>
          </a:ln>
        </p:spPr>
      </p:pic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395280" y="189000"/>
            <a:ext cx="822960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Григорий  Кубатьян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утешественник, журналист «GEO»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иколай Баландинский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рганизатор съемок на местах географических передач НТВ, автор сайта "GEO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RAFIA.RU"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0" name="Picture 4" descr="a_339b4e1_lzn"/>
          <p:cNvPicPr/>
          <p:nvPr/>
        </p:nvPicPr>
        <p:blipFill>
          <a:blip r:embed="rId1"/>
          <a:stretch/>
        </p:blipFill>
        <p:spPr>
          <a:xfrm>
            <a:off x="5796000" y="189000"/>
            <a:ext cx="3130560" cy="22320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5" descr="nb-portret_lzn"/>
          <p:cNvPicPr/>
          <p:nvPr/>
        </p:nvPicPr>
        <p:blipFill>
          <a:blip r:embed="rId2"/>
          <a:stretch/>
        </p:blipFill>
        <p:spPr>
          <a:xfrm>
            <a:off x="5292720" y="3564000"/>
            <a:ext cx="3560760" cy="3294000"/>
          </a:xfrm>
          <a:prstGeom prst="rect">
            <a:avLst/>
          </a:prstGeom>
          <a:ln w="0">
            <a:noFill/>
          </a:ln>
        </p:spPr>
      </p:pic>
      <p:sp>
        <p:nvSpPr>
          <p:cNvPr id="2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95280" y="18864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Заместитель главного редактора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газеты  «Коммерсант»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горь Тросников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Среди известных людей в географической среде , которые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откликнулись на приглашение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Баринова И.И.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(главный редактор журнала "География и экология в школе 21 века", профессор МПГУ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Смирнягин Л. В.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( к.г.н., доцент географического факультета МГУ, научный консультант Фонда «Институт экономики города»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Чупина Л.Б.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(к.г.н., доцент географического факультета ПГУ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Чмерёва Г.В.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(ответственный секретарь объединения выпускников географического факультета МГУ им. М.В. Ломоносова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4" name="Picture 4" descr="x_0f1d8a68_lzn"/>
          <p:cNvPicPr/>
          <p:nvPr/>
        </p:nvPicPr>
        <p:blipFill>
          <a:blip r:embed="rId1"/>
          <a:stretch/>
        </p:blipFill>
        <p:spPr>
          <a:xfrm>
            <a:off x="4140360" y="189000"/>
            <a:ext cx="3457440" cy="2887560"/>
          </a:xfrm>
          <a:prstGeom prst="rect">
            <a:avLst/>
          </a:prstGeom>
          <a:ln w="0">
            <a:noFill/>
          </a:ln>
        </p:spPr>
      </p:pic>
      <p:sp>
        <p:nvSpPr>
          <p:cNvPr id="2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Активные рядовые члены организации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793116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тудент факультета географии и геоэкологии Санкт-Петербургского Государственного Университета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Дмитрий Сальников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Алексей Железнов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ссистент кафедры геоморфологии  Санкт-Петербургского Государственного Университет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324000" y="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Аспирант кафедры отечественной истории Красноярского Государственного Педагогического Университета В.П. Астафьев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ергей Бахти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Аспирант кафедры экономической и социальной географии России Московского Государственного Университета им. М.В. Ломоносов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Алексей Сидоренк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Аспирант Института наследия имени Дмитрия Лихачев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иктор Матасо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Аспирант Таврического Национального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Университета  (Украина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ергей Гуро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68360" y="836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тудент географического факультета Московского Государственного Университета им. М.В. Ломоносова, призер международной олимпиады по географии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ван Прохоро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тудент факультета естественных наук и природных ресурсов Новгородского Государственного Университет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Алексей Сабельски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Рейтинг тем, кол-во человек принявших в обсуждениях, (</a:t>
            </a: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%</a:t>
            </a: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браз идеального географа – 3%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рофессия географа – 8%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Тематические отрасли  в географии - 20%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оездки, путешествия, туризм - 10%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Города России – 3%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Участие в различных географических организациях - 7%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оступление на географические факультеты страны – 13 %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Географическое мышление – 4 %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роблемы трудоустройства – 15 %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бучение географии в школе – 3%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оциальный статус и его роль в географии – 6%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Географический софт и игры – 8 %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Географический юмор – 3%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Административно-территориальное деление России 10 %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ГИС- 6 %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Географическая культура – 15 %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Предисловие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2184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стория развития социального общения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временные информационные средства общения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остевые книги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Форумы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логи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циальные сети (Вконтакте, Википедия и др.)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cecff"/>
                </a:solidFill>
                <a:uFillTx/>
                <a:latin typeface="Times New Roman"/>
              </a:rPr>
              <a:t>Итоги работы организации за год существования: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11280" y="549000"/>
            <a:ext cx="8229600" cy="60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1) Намечена стратегия развития проекта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2) Создан 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форум-каталог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 географических ресурсов http://geoforumkatalog.5bk.org/ , сотрудничающий с Елисеевским географическим обществом (руководителем которого является Николай Баландинский)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3) В рамках Ассоциации предпринята попытка создания дистанционного 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социального географического университета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 (http://vkontakte.ru/club1859707 ), состоящего из ряда дистанционных кафедр и лабораторий (дистанционное тьюторство)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4) Подготавливаются база для создания первого в России географического движения (несколько видных географов уже высказали свой интерес к этому проекту)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5) Сформирован Банк географической информации (http://vkontakte.ru/club926972 )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6) Постоянно обновляется географический фото-, аудио- и видеоархив (в нашем архиве есть и эксклюзивные материалы с путешествий Григория Кубатьяна)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7) Началось постепенное формирование географических компьютерных презентаций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8) В рамках ассоциированной с IIGA виртуальной кафедрой этнологии (http://vkontakte.ru/club258245 ) создана Инициативная группа по "проталкиванию" нового школьного предмета под условным названием "Народоведение" (http://vkontakte.ru/club1475221 )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9) Организован ряд интересных встреч, конкурсов, фестивалей и этнографических полевых практикумов (см. раздел "Наши мероприятия")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10) Вынесены на обсуждение актуальные теоретические и практические вопросы географии;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11) По целому ряду географических проблем среди участников Ассоциации проводятся социологические опросы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12) Оперативно помещается самая свежая информация географического плана (раздел "Новости")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13) Создан уникальный банк данных по российским и зарубежным знаменитостям с высшим географическим образованием, но не ставших профессиональными географами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Дистанционный Социальный Географический Университет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се началось с создания гео-национального проекта "Вконтакте с Географией"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роект с марта месяца 2008 года поменял свою направленность. Главной его сферой стала социальная, ориентированная на потребности человека в географии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Были поставлены задачи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1) Развитие единой электронной библиотеки по географии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2) Создание рекламной афиши по купле и продажи географических книг и пособий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3) Консультации по спектру вопросов, касающихся географии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4) Обучение информационным технологиям в географии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5) Обсуждение проблем в географии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6) Развитие отдельных отраслей географии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7) Помощь в трудоустройстве (единая справочная сеть)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8) Создание нового информационного класса для обучения и создание единого виртуального дистанционного географического университета;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360" y="-38736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Основные сведения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Социальный (Интерактивный) Географический Университет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службы "Вконтакте" был основан 4 марта 2008 года. Его состав включает все социальные слои в географии, геологии, картографии, истории, политологии и туризме и в других естественнонаучных и гуманитарных науках, тесно соприкасающихся с географией)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рием заявок на вступление происходит по следующим критериям отбора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ФИО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бразование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ученая степень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убликации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рофессиональные достижения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Структура СИАГУ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а сегодняшний день создано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5 кафедр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8 лабораторий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 электронно-книжная библиотека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 центр электронных географических ресурсов Интернета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 видео-географический архив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есколько подшефных организаций (фан-клубы, известных организаций и печатных изданий страны);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-24336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Название структурных подразделений (СИАГУ):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-Кафедра истории географической науки и образования стран мира: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(занимается изучением истоков зарождения науки и развития гео. образования в мире);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-Кафедра географии урбанизации мира: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(занимается проблемами исследования  урбанизации в мире);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-Кафедра политической географии (геополитики) и регионалистики: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(занимается  геополитическими исследованиями стран мира);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-Кафедра вузовской географии и трудоустройства (занимается вопросами качества высшего гео. образования и проблемами постдипломного трудоустройства;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-Кафедра Географической визуализации (занимается вопросами картографии и ГИС);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-Кафедра медийной географии (занимается изучением распространения СМИ и мультимедийной продукции в географии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-Кафедра культурной географии (география культуры и искусства);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-Кафедра географии религий мира;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-Кафедра электоральной географии (занимается изучением политики с точки зрения социально-экономической географии);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-Кафедра страноведения и м.д. туризма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ccecff"/>
                </a:solidFill>
                <a:latin typeface="Times New Roman"/>
              </a:rPr>
              <a:t>Географический Форум-Каталог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Times New Roman"/>
              </a:rPr>
              <a:t>Geographical Forum-Catalog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Форум представляет собой информационный ресурс. Состоит из 6 категорий. В основных темах форума представлены: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IIGA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-Ассоциация, на которой основан форум, «Географическая библиотека», «Гео-образование», кафедры Социально-Интерактивного Географического Университета, темы по направлениям географии и др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ff"/>
                </a:solidFill>
                <a:uFillTx/>
                <a:latin typeface="Verdana"/>
              </a:rPr>
              <a:t>Цель форума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Verdana"/>
              </a:rPr>
              <a:t>: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Объединение географов, геологов, почвоведов, картографов, специалистов в сфере туризма, историков, политологов, экономистов и всех любителей науки, кому не безразлична судьба современной географии, её проблем и дальнейших перспектив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ff"/>
                </a:solidFill>
                <a:uFillTx/>
                <a:latin typeface="Verdana"/>
              </a:rPr>
              <a:t>Задачи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Verdana"/>
              </a:rPr>
              <a:t>: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Привлечение в форум по средствам интернет-общения сторонников национальной географической идеи, обсуждение актуальных проблем нынешней географии, её теоретических и практических вопросов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Форум могут вступить все желающие, кому дорога география. Это могут быть: студенты, школьники,учителя,преподаватели школ и вузов, путешественники, туристы и просто любители!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остав Ассоциаци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Rectangle 10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47" name="Object 1028"/>
          <p:cNvGraphicFramePr/>
          <p:nvPr/>
        </p:nvGraphicFramePr>
        <p:xfrm>
          <a:off x="0" y="981000"/>
          <a:ext cx="4791240" cy="4648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8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81000"/>
                    <a:ext cx="479124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Rectangle 1031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50" name="Object 1030"/>
          <p:cNvGraphicFramePr/>
          <p:nvPr/>
        </p:nvGraphicFramePr>
        <p:xfrm>
          <a:off x="4705200" y="1413000"/>
          <a:ext cx="4438800" cy="3671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51" name="Object 103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05200" y="1413000"/>
                    <a:ext cx="4438800" cy="36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56" name="Object 4"/>
          <p:cNvGraphicFramePr/>
          <p:nvPr/>
        </p:nvGraphicFramePr>
        <p:xfrm>
          <a:off x="0" y="0"/>
          <a:ext cx="4429080" cy="3086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4429080" cy="30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Rectangle 7"/>
          <p:cNvSpPr/>
          <p:nvPr/>
        </p:nvSpPr>
        <p:spPr>
          <a:xfrm>
            <a:off x="0" y="18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59" name="Object 6"/>
          <p:cNvGraphicFramePr/>
          <p:nvPr/>
        </p:nvGraphicFramePr>
        <p:xfrm>
          <a:off x="4572000" y="0"/>
          <a:ext cx="4438800" cy="3095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6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0"/>
                    <a:ext cx="4438800" cy="30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Rectangle 9"/>
          <p:cNvSpPr/>
          <p:nvPr/>
        </p:nvSpPr>
        <p:spPr>
          <a:xfrm>
            <a:off x="0" y="18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62" name="Object 8"/>
          <p:cNvGraphicFramePr/>
          <p:nvPr/>
        </p:nvGraphicFramePr>
        <p:xfrm>
          <a:off x="0" y="3357720"/>
          <a:ext cx="4438800" cy="30956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63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3357720"/>
                    <a:ext cx="4438800" cy="30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4" name="Rectangle 11"/>
          <p:cNvSpPr/>
          <p:nvPr/>
        </p:nvSpPr>
        <p:spPr>
          <a:xfrm>
            <a:off x="0" y="1876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65" name="Object 10"/>
          <p:cNvGraphicFramePr/>
          <p:nvPr/>
        </p:nvGraphicFramePr>
        <p:xfrm>
          <a:off x="4500720" y="3357720"/>
          <a:ext cx="4448160" cy="310500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266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00720" y="3357720"/>
                    <a:ext cx="4448160" cy="31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Rectangle 6"/>
          <p:cNvSpPr/>
          <p:nvPr/>
        </p:nvSpPr>
        <p:spPr>
          <a:xfrm>
            <a:off x="0" y="18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Rectangle 8"/>
          <p:cNvSpPr/>
          <p:nvPr/>
        </p:nvSpPr>
        <p:spPr>
          <a:xfrm>
            <a:off x="0" y="18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Rectangle 10"/>
          <p:cNvSpPr/>
          <p:nvPr/>
        </p:nvSpPr>
        <p:spPr>
          <a:xfrm>
            <a:off x="0" y="1876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3" name="Picture 12" descr="картаа"/>
          <p:cNvPicPr/>
          <p:nvPr/>
        </p:nvPicPr>
        <p:blipFill>
          <a:blip r:embed="rId1"/>
          <a:stretch/>
        </p:blipFill>
        <p:spPr>
          <a:xfrm>
            <a:off x="0" y="0"/>
            <a:ext cx="9144000" cy="5916600"/>
          </a:xfrm>
          <a:prstGeom prst="rect">
            <a:avLst/>
          </a:prstGeom>
          <a:ln w="0">
            <a:noFill/>
          </a:ln>
        </p:spPr>
      </p:pic>
      <p:sp>
        <p:nvSpPr>
          <p:cNvPr id="2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879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Сервисы Web 2.0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9640" y="105228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дним  из многофункциональных лидеров социальных сетей в России стала  служб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«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Вконтакте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». Созданная Ивановым Алексеем, российский аналог англоязычного сервиса «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Facebook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»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айт был изначально создан для студентов и выпускников российских вузов и помогает им поддерживать связь между собой. В нынешнее время происходит расширение аудитории сайта для всех слоев пользователей Интернет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втором проекта является стипендиат премии Потанина Павел Дуров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Википеди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ногоязычная общедоступная свободно распространяемая энциклопедия, публикуемая в Интернете. Создаётся на многих языках мира коллективным трудом добровольных авторов, использующих технологию вик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Вики — веб-сайт, структуру и содержимое которого пользователи могут сообща изменять с помощью инструментов, предоставляемых самим сайтом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История </a:t>
            </a: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IIGA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 весне 2007 года, когда шло развитие самой социальной службы, энтузиастами разрабатывалась сама концепция построения международной географической ассоциации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легом Сычевым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,  учителем географии московской школы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и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ениченко Владимиром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, студентом геолого-географического факультета Астраханского государственного университет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Цели создания Ассоциации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вышение уровня географического образования различного статуса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вышения статуса географии как науки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оздание единого Географического профсоюза (в дальнейшем - Движения Географов), который служил бы исполнительным органом за надзором качества преподаваемой дисциплины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азрешения проблем трудоустройства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вышения статуса предмета в школе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еждународное географическое сотрудничество между различными социальными статусами в географии и смежных науках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2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8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Цели создания Ассоциации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вышение уровня географического образования различного статуса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вышения статуса географии как науки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оздание единого Географического профсоюза (в дальнейшем - Движения Географов), который служил бы исполнительным органом за надзором качества преподаваемой дисциплины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азрешения проблем трудоустройства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вышения статуса предмета в школе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еждународное географическое сотрудничество между различными социальными статусами в географии и смежных науках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5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1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87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Задачи Ассоциации: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ривлечение в Ассоциацию посредством виртуального общения сторонников национальной географической идеи, обсуждение актуальных проблем нынешней географии, её теоретических и практических вопросов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Создание самого большого в Интернете в первую очередь научно-образовательного и общественного профессионального географического сообщества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ридание официального статуса Ассоциации (юридическая её регистрация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Создание своего географического движения (Профсоюз географов России и стран СНГ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Создание виртуального Географического университета, направленного на формирование географической культуры в самых широких слоях населения (популяризация географии, дистанционное консультирование (тьюторство)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ривлечение к проекту известных ученых-естественников и знаменитых путешественников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Создание мобильных творческих групп для решения конкретных задач, например, написание пособий и учебников по географии и другим смежным дисциплинам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оиск спонсоров, в том числе информационных (установление связей с географическими СМИ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Организация разных конкурсов, олимпиад (различного социального уровня), дружеских встреч, научных конференций, туристических поездок, экспедиций, образовательных полевых практикумов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Создание своего мощного сайта на основе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iki-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технологий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 перспективе: установление дружественных и деловых связей с зарубежными географическими структурами; их привлечение к проекту в качестве партнеров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Профессиональный состав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Географы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Геологи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очвоведы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Картографы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пециалисты по ГИС и в сфере туризма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Историки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олитологи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Экономисты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Этнологи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Биологи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 Ассоциацию могут войти не только профессиональные географы, но и представители других смежных с географией наук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95280" y="-31608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Общие сведения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 конец марта 2008 года в Ассоциации насчитывается более 4650 чел. В основном из России и в основном студенты-географы. Но также есть участники из Украины, Белоруссии, Грузии, Азербайджана, Киргизии, Узбекистана, Казахстана, США, Израиля и Германи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реди участников и руководителей Ассоциации есть и известные люд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12:03:48Z</dcterms:created>
  <dc:creator>USER</dc:creator>
  <dc:description/>
  <dc:language>en-US</dc:language>
  <cp:lastModifiedBy>LEGION</cp:lastModifiedBy>
  <dcterms:modified xsi:type="dcterms:W3CDTF">2014-12-29T08:36:47Z</dcterms:modified>
  <cp:revision>22</cp:revision>
  <dc:subject/>
  <dc:title>INTERNATIONAL-INTERNET GEO-ASSOCIATION</dc:title>
</cp:coreProperties>
</file>